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3E2-FD24-47C1-8F0B-EBFCB2F6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F83-F2A2-4FA4-9F4E-B9C4D92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08D-82C5-4B94-A37A-ADD4A681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8409-9067-4C1B-A131-0CFF26EF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4280-A365-4CA0-9E92-60374356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BCAD-575B-442C-917D-EFA95FC2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3CD4-4690-41AF-80CA-62D7F335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C415-FAB2-4B12-8AF0-3E3D975B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97D1-6560-48C3-88D9-0A97D133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FCE3-28E4-4946-82B7-AF97D1A5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D563-633C-4DAE-8B87-9CA16C94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9C7-4E0A-465B-93AB-5740797F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678A-AB53-414D-88F8-8D82CCC9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4E39-AEB4-44E2-B969-BFB07E24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A57C-245A-482C-A806-136BDF65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1C3B-89B1-40AC-B51F-7B401549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354-841E-462F-B064-110773FF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D06-3BCD-4A3C-A0F7-5A337694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BAC-7953-41A4-A022-E9C9CB67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319C-6AF2-4890-9557-E2D793E6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E04C-56C4-40DC-850D-68414B8F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784-8EB7-4F02-9980-A389DAD7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8A5-FEFC-4C6A-96C3-7DA7E06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48A-6183-4B51-B2B8-63071A57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AA82-E72E-47F3-9239-DA80235D1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E2E9-17B8-4EC0-913F-77F351F96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35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Place Value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hole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s, Tens &amp; Hundr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anded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887560"/>
            <a:ext cx="464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. Beth McCulloch Vin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s. Jennifer Willi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eometr231 BT"/>
              </a:rPr>
              <a:t>Math Revie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19200" y="1886040"/>
          <a:ext cx="771372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1886040"/>
                    <a:ext cx="771372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95440" y="1981080"/>
          <a:ext cx="217152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981080"/>
                    <a:ext cx="21715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s a single unit of any i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nes place is the first digit to the r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have up to 9 items in the ones pl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932200"/>
          <a:ext cx="3790800" cy="21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32200"/>
                    <a:ext cx="379080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 individual items can be grouped together as one 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ens place is the second number from the r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umbers 10 through 99 can be placed in this s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UNDRE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6840" y="1981080"/>
          <a:ext cx="316728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981080"/>
                    <a:ext cx="3167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 groups of ten are equal to one hund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undreds place is the third number from the r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can have the numbers 100 through 999 in the hundreds slo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ading Num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s are read by their place val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called expanded 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the number 432 can be expressed 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undreds, three tens, and two ones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undred thirty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rite these numbers in expanded form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hundred, thirty one or two hundreds, three tens and on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8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 hundred, eighty nine or seven hundreds, eight tens, and nine on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w you can feel secure in reading any number between 0 and 999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2520" y="2666880"/>
            <a:ext cx="34290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 that each place can hold up to nine of that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, Practice, Pract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73360" y="2139840"/>
            <a:ext cx="1968480" cy="1892520"/>
          </a:xfrm>
          <a:custGeom>
            <a:avLst/>
            <a:gdLst>
              <a:gd name="textAreaLeft" fmla="*/ 72720 w 1968480"/>
              <a:gd name="textAreaRight" fmla="*/ 1895760 w 1968480"/>
              <a:gd name="textAreaTop" fmla="*/ 69840 h 1892520"/>
              <a:gd name="textAreaBottom" fmla="*/ 1511640 h 1892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08240" y="2590920"/>
            <a:ext cx="1540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lov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8760" y="4502160"/>
            <a:ext cx="3492360" cy="2347920"/>
          </a:xfrm>
          <a:prstGeom prst="plus">
            <a:avLst>
              <a:gd name="adj" fmla="val 24995"/>
            </a:avLst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9480" y="3130560"/>
            <a:ext cx="1511280" cy="13590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8:04Z</dcterms:created>
  <dc:creator>Gadsden Center</dc:creator>
  <dc:description/>
  <dc:language>en-US</dc:language>
  <cp:lastModifiedBy>Dr. Beth McCulloch Vinson</cp:lastModifiedBy>
  <cp:lastPrinted>1997-07-09T23:36:22Z</cp:lastPrinted>
  <dcterms:modified xsi:type="dcterms:W3CDTF">2000-07-11T04:48:30Z</dcterms:modified>
  <cp:revision>9</cp:revision>
  <dc:subject/>
  <dc:title>Sixth Grade Math Review of Place Value  </dc:title>
</cp:coreProperties>
</file>